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65E-8433-41FC-87FE-5549E614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9C1-DC01-4F6C-A323-867BE0C9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E9F67-1CCB-452B-B334-B40E799A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37238-79E6-487A-B8D0-DA1117FB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290AB-8627-44D4-8B2C-3E539D6C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AB232-9F21-4B6C-B872-86525FC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FA40E-2F43-452E-B419-681B1B7E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7D2EC-ADA5-4F9A-AA47-91C159B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1A57E-AE33-4E11-8321-7E9496E1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7D5C9-9149-4755-BAE5-2AE55DC0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7E059-07E2-44D7-AAFC-D2C4A7A4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A4289-CCB8-4F8A-9F69-ED7DAA59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BBB5-07FA-41AE-A9F0-BC6F9CB6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9FF71-7DFD-4780-A977-C4B5FC8A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43F18-09BF-4B70-A38E-D01477BE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D7FC9-A3BE-4EA3-8D32-31395D89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46FDA-1553-40DB-9BFD-AB57FA58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416D2-35FA-4564-AD7C-F0C9BBA2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B5AD1-7839-4E93-8153-9FF67948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84294-EF3A-4E4D-A8E8-128BDD7D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AA480-833F-4AD8-9322-6ACE74E2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77848-4DF6-4A06-92D9-5939DEC4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3194E-D6E6-455A-A64C-EBDD5107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8AEA-D4F0-470D-A5D8-54EEC569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A41D8-8D27-4C92-81A2-3BB8B35B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BFAC0-BAD4-4283-9E62-91537353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0F028-CBEC-4D48-9115-164FEC94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2B490-D4C2-492A-9B95-EC56B4A8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861E6-A183-447E-89E0-6110F5D8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A289E-414E-4D29-AFEF-02615655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402219-CE8C-4FBA-ACA9-4DC4FD14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62AEE-3D11-4E18-86EF-EE9147B9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82A7A-F22D-427D-B00C-08EA36DF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E1467-34F5-444B-A2A4-04DA2F77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F1BD-3436-4DB0-A407-F65F14E1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DA3F3-A4D4-4502-8FC6-67C3477C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59C0C-6DA6-41FE-8717-A7789FED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44B99-1C1D-4C3D-8224-B9B99433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E2FCC-B30E-4D4A-9D3B-A1DA6883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70EC4-9B72-4099-A992-3BAD0E0E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6148C-3A4C-40F1-AB63-DC8336A8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F6B30-0340-4AD8-8387-8AD5212A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8E482-A018-493D-97FD-CFE6241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4A533-B72C-4A87-92B7-59F6C1A5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9D9A6-CCAE-453F-BBA5-97ABCEB1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899A-4813-4798-985C-9A29E72C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72BAE-7727-49CB-97E1-E3FC7111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B5E7B-31E2-49A3-A41C-EB401DA4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7FB12-587A-42D5-9ED4-1306D5D5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CA097B-89EF-43E0-9A52-F6F6703B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8B8FC-581F-41C9-96DB-79084293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4FDA-F710-4445-92B2-A01B18F6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54FB-338A-483C-8C55-3048B8D5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BD5D-9598-4280-B861-F6DCAECD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FDD7-D26A-4A66-8AFC-AC86E6E0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43AE-B5DF-4C31-AE33-BF38A82E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80A3-4B19-47D9-ADFB-E1667D1A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C7E4-6313-4711-86A9-65DE06DA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216B-1C0A-4F54-AD65-FD6DF7F0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ADD4-4E4A-4B29-8EE4-0BF72AA5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24F8-5CA8-441D-9DDA-FFE39A4B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DC87-44C4-4646-AD04-C55D45CE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6D336-859B-45EC-9C4A-5FEF71A4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88FCA-696B-4216-BC88-E3D03F6A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FBC1-6DCC-4119-9431-4EA472C2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6AA87-904C-4189-AF10-12F154D4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5941-581C-4B65-AE14-DF077924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1A4-0C32-4353-9CB1-DC81DB9D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DAB9-1B8F-436D-9C0A-FB44E51B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498C-3D06-4019-8AE2-0D667BA2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2F374-38C0-4AD0-9EE6-3BECD2BF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BEF9-4485-48EB-AC96-6B786BD4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987F-128C-41A8-9481-54633844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8BFF7-133A-4413-93E4-4AAF62D0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E4C9-ABC8-4DC4-917C-AB1755BA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08DDB-D5B7-4D80-B530-ED2F2E64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15BF3-6B82-42A6-8AF3-49D7EE02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BB411-0AC0-48F9-B753-FC5785EF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212-CEBF-454B-AB0F-EFDE0366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0015E-DBF1-4683-827A-EC9618BF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906C0-CCF9-4C90-A46C-926188B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F79C8-0989-4C6F-94AE-C21CC40B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F0898-AAA7-4C46-AD72-FC5B5E74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86E3A-0A59-4610-91E8-33203183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0E2AD-A87E-4ECE-91B0-E74F3EAA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E7A0-F1A7-47B7-9C33-7CDED033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09BC1-2A7A-4C63-88B9-CCD1253FF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A514-43E2-4AC0-B3EC-577657FF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DF5DE-2492-43A2-A8BB-2B8A694D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0E2-085D-4E7D-996A-5314BB59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7293-64AF-4E74-86C3-403086C9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1F489-7907-4023-8D03-5D1795E6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7798B-DD8B-4099-A899-DF9888AA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E0C63-C260-44F3-B059-B703B9FD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BA1E1-61EA-4D87-98B4-B12FD522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1932C-172F-4529-9E80-851F8B9C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E6CF2-C55F-411D-B89A-B92DD4EF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E980C-448E-4CD7-B47A-64351F9C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ABF21-D49B-40DF-A72B-02E995F2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430FB-38E3-493A-AFEC-E08EFAD6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605-1778-462A-935C-E6F2BD04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7FE38-DB0E-4C49-A8E6-59CF9808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C6777-4026-413C-B5F3-BEC2A08F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2BF16-C192-4FD3-907E-B785281A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2302E-C489-435C-918E-23BFA4FC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30E41-4B67-42D5-98C6-B11812DD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71B51-06AD-471C-9C81-B56BCB03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127C5-F660-4E9D-A6A4-A66B1622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037DB-288D-4888-A614-6105600B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D6DF3-BBF0-4BE1-968E-313C0551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E420F-E9D7-4014-B5C2-3FE24655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BC8B-1723-4324-AAAD-23A9795E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B14A0-9F60-4E80-B009-115494AB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6CCAE-56A5-4A42-9140-C98A15DC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EEBFE-543D-4283-B728-A7D1720A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9E7CA-F29C-4E6D-9A49-04221905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09899-D8DE-4131-86D4-D5316283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F7CAD-6B12-4898-9733-9A25DDB0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80CDD-777C-4042-B0B0-F40E884E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19E9D-E6DB-4D5B-BCE9-A4885BD8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AE9A7-31F4-4445-8E05-A85C9CF6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13D49-1677-412F-9BD8-4F84215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E94E-008D-43DD-A199-6BDDBEB9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8A185-F561-4031-B25E-1DC3F8D8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3A79E-BC0F-40E0-BEAA-419806F0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260E6-8273-40C1-B6C2-757E54E3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FE0A0-1C4B-4800-A6B6-9D981C59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0D50C-B1D2-4A69-9B5A-AE0D7AFB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0155C-16F5-49FF-88D4-B7734CAF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65A78-8FD6-4481-82FF-7F7F8ECF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5D0C9-9E4F-45D0-85B4-E2F1B043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70029-FF78-4BD4-A147-D86DEAED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3BBD4-31A3-4D44-BAE6-317D356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74A-7A16-4535-A741-B1398FC0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51B5E-D330-43F4-AC8C-EB49E0B4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C356F-7A11-4426-9441-B0279B64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5ACAA-E711-499C-A47E-B31F8B2F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C7762-E558-4A9C-87BE-2541AF24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FFDE6-AF23-4843-8D69-584180AB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05720-DED3-4452-8CB7-07E7157A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BB2E9-C0F8-4390-A78E-1F74B5F6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22E07-67CE-4669-AD14-2BFE13FE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BF73F-8F5F-433D-995A-5EDA5A3B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1C27E-883E-49D3-9C8A-0B4AF8D3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58D7-8433-48E5-8A50-B6DF0D3F7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5BAC-A86A-464B-A5F0-9D67CC244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C5E3-6AD7-460F-99AC-C38640031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6785-4510-4ADA-9DEB-117328FBA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7308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6" descr="LOGO CE-EN-quadri.eps"/>
          <p:cNvPicPr/>
          <p:nvPr/>
        </p:nvPicPr>
        <p:blipFill>
          <a:blip r:embed="rId2"/>
          <a:stretch/>
        </p:blipFill>
        <p:spPr>
          <a:xfrm>
            <a:off x="3905280" y="309600"/>
            <a:ext cx="1584360" cy="1100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ECC8-5E73-40B7-9F55-B5B6940B5BE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32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8"/>
          <p:cNvSpPr/>
          <p:nvPr/>
        </p:nvSpPr>
        <p:spPr>
          <a:xfrm>
            <a:off x="4262400" y="666900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37000"/>
            <a:ext cx="28958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8111-88B9-45F1-8739-19C42AC2E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8601-F2E0-4D73-AE87-9CCDD1E7B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BD3D-E6C3-4FBC-9BEC-F295E5F28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9DF3-8A12-4556-B34D-F2056F92C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7033-DE9A-44E3-BB3C-A6DF6346D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16F9-AFB3-4F67-BDDE-8E08A01EA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D340-5A0B-4104-A5A8-52563F44C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rancesco.laera@ec.europa.eu" TargetMode="External"/><Relationship Id="rId2" Type="http://schemas.openxmlformats.org/officeDocument/2006/relationships/hyperlink" Target="http://ec.europa.eu/italia" TargetMode="External"/><Relationship Id="rId3" Type="http://schemas.openxmlformats.org/officeDocument/2006/relationships/hyperlink" Target="http://ec.europa.eu/italia" TargetMode="External"/><Relationship Id="rId4" Type="http://schemas.openxmlformats.org/officeDocument/2006/relationships/hyperlink" Target="http://ec.europa.eu/italia" TargetMode="External"/><Relationship Id="rId5" Type="http://schemas.openxmlformats.org/officeDocument/2006/relationships/hyperlink" Target="http://ec.europa.eu/italia" TargetMode="External"/><Relationship Id="rId6" Type="http://schemas.openxmlformats.org/officeDocument/2006/relationships/hyperlink" Target="http://www.facebook.com/CommissioneEuropeaMilano" TargetMode="Externa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058160" cy="53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d624"/>
                </a:solidFill>
                <a:latin typeface="Verdana"/>
              </a:rPr>
              <a:t>15 gennaio 2013 </a:t>
            </a:r>
            <a:br>
              <a:rPr sz="1200"/>
            </a:br>
            <a:br>
              <a:rPr sz="1400"/>
            </a:br>
            <a:r>
              <a:rPr b="1" i="1" lang="it-IT" sz="1400" spc="-1" strike="noStrike">
                <a:solidFill>
                  <a:srgbClr val="ffd624"/>
                </a:solidFill>
                <a:latin typeface="Verdana"/>
              </a:rPr>
              <a:t>Istituto dei Salesiani Valdocco, Torino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4400"/>
            </a:br>
            <a:r>
              <a:rPr b="1" lang="it-IT" sz="4400" spc="-1" strike="noStrike">
                <a:solidFill>
                  <a:srgbClr val="ffd624"/>
                </a:solidFill>
                <a:latin typeface="Verdana"/>
              </a:rPr>
              <a:t>Safe Social Media</a:t>
            </a:r>
            <a:br>
              <a:rPr sz="4400"/>
            </a:br>
            <a:br>
              <a:rPr sz="4400"/>
            </a:br>
            <a:br>
              <a:rPr sz="2000"/>
            </a:br>
            <a:r>
              <a:rPr b="1" lang="it-IT" sz="1600" spc="-1" strike="noStrike">
                <a:solidFill>
                  <a:srgbClr val="ffd624"/>
                </a:solidFill>
                <a:latin typeface="Verdana"/>
              </a:rPr>
              <a:t>Francesco Laera</a:t>
            </a:r>
            <a:br>
              <a:rPr sz="2000"/>
            </a:br>
            <a:br>
              <a:rPr sz="2000"/>
            </a:br>
            <a:r>
              <a:rPr b="1" lang="it-IT" sz="1400" spc="-1" strike="noStrike">
                <a:solidFill>
                  <a:srgbClr val="ffd624"/>
                </a:solidFill>
                <a:latin typeface="Verdana"/>
              </a:rPr>
              <a:t>Addetto Stampa </a:t>
            </a:r>
            <a:br>
              <a:rPr sz="1400"/>
            </a:br>
            <a:r>
              <a:rPr b="1" lang="it-IT" sz="1400" spc="-1" strike="noStrike">
                <a:solidFill>
                  <a:srgbClr val="ffd624"/>
                </a:solidFill>
                <a:latin typeface="Verdana"/>
              </a:rPr>
              <a:t>Rappresentanza della Commissione europea di Milano</a:t>
            </a:r>
            <a:br>
              <a:rPr sz="1400"/>
            </a:b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34920" y="1341360"/>
            <a:ext cx="907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f5494"/>
                </a:solidFill>
                <a:latin typeface="Verdana"/>
              </a:rPr>
              <a:t>Futuro </a:t>
            </a:r>
            <a:r>
              <a:rPr b="1" lang="it-IT" sz="28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0f5494"/>
                </a:solidFill>
                <a:latin typeface="Verdana"/>
              </a:rPr>
              <a:t> 2014/2020 Strategy</a:t>
            </a:r>
            <a:endParaRPr b="0" lang="en-US" sz="2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4" name="TextBox 2"/>
          <p:cNvSpPr/>
          <p:nvPr/>
        </p:nvSpPr>
        <p:spPr>
          <a:xfrm>
            <a:off x="2195640" y="1865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5494"/>
                </a:solidFill>
                <a:latin typeface="Verdana"/>
              </a:rPr>
              <a:t>Assi d'azione e priorità 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5" name="Oval 4"/>
          <p:cNvSpPr/>
          <p:nvPr/>
        </p:nvSpPr>
        <p:spPr>
          <a:xfrm>
            <a:off x="44280" y="3003480"/>
            <a:ext cx="2503800" cy="2035080"/>
          </a:xfrm>
          <a:prstGeom prst="ellipse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6" name="TextBox 7"/>
          <p:cNvSpPr/>
          <p:nvPr/>
        </p:nvSpPr>
        <p:spPr>
          <a:xfrm>
            <a:off x="314280" y="35892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d624"/>
                </a:solidFill>
                <a:latin typeface="Verdana"/>
              </a:rPr>
              <a:t>Commissione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d624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d624"/>
                </a:solidFill>
                <a:latin typeface="Verdana"/>
              </a:rPr>
              <a:t>europea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7" name="Right Arrow 8"/>
          <p:cNvSpPr/>
          <p:nvPr/>
        </p:nvSpPr>
        <p:spPr>
          <a:xfrm>
            <a:off x="2679840" y="3768840"/>
            <a:ext cx="1152360" cy="50472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8" name="TextBox 9"/>
          <p:cNvSpPr/>
          <p:nvPr/>
        </p:nvSpPr>
        <p:spPr>
          <a:xfrm>
            <a:off x="3708360" y="256536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Rafforzare cooperazione politiche nazionali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49" name="TextBox 10"/>
          <p:cNvSpPr/>
          <p:nvPr/>
        </p:nvSpPr>
        <p:spPr>
          <a:xfrm>
            <a:off x="4932360" y="422100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Aziende responsabili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0" name="TextBox 11"/>
          <p:cNvSpPr/>
          <p:nvPr/>
        </p:nvSpPr>
        <p:spPr>
          <a:xfrm>
            <a:off x="4356000" y="4797360"/>
            <a:ext cx="36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Sostegno all’alfabetizzazione digitale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1" name="TextBox 12"/>
          <p:cNvSpPr/>
          <p:nvPr/>
        </p:nvSpPr>
        <p:spPr>
          <a:xfrm>
            <a:off x="4284720" y="3213000"/>
            <a:ext cx="3549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Sviluppo di indicatori &amp; griglie di valutazione per programmi nazionali 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2548080" y="5411880"/>
            <a:ext cx="494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Comunicazione COM (2012) 196: 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"European Strategy for a Better Internet for Children"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-360" y="1268280"/>
            <a:ext cx="9109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f5494"/>
                </a:solidFill>
                <a:latin typeface="Verdana"/>
              </a:rPr>
              <a:t>I 4 pilastri della strategia futura</a:t>
            </a:r>
            <a:br>
              <a:rPr sz="2400"/>
            </a:br>
            <a:r>
              <a:rPr b="1" lang="it-IT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Comunicazione COM (2012) 196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692000" y="2565360"/>
            <a:ext cx="6985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Alta qualità dei contenuti online</a:t>
            </a:r>
            <a:br>
              <a:rPr sz="1600"/>
            </a:b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Rafforzare consapevolezza e responsabilizzazione</a:t>
            </a:r>
            <a:br>
              <a:rPr sz="1600"/>
            </a:br>
            <a:r>
              <a:rPr b="0" lang="it-IT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CEO Coalition</a:t>
            </a:r>
            <a:br>
              <a:rPr sz="1600"/>
            </a:br>
            <a:r>
              <a:rPr b="0" lang="it-IT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Industry Committments 2012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Creazione di una rete Internet più sicura per i minori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Lotta contro l'abuso e lo sfruttamento sessuale dei minori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00"/>
              </a:spcBef>
              <a:buClr>
                <a:srgbClr val="0f5494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57200" y="23493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5494"/>
                </a:solidFill>
                <a:latin typeface="Verdana"/>
              </a:rPr>
              <a:t>Francesco LAERA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f5494"/>
                </a:solidFill>
                <a:latin typeface="Verdana"/>
              </a:rPr>
              <a:t>Addetto stampa</a:t>
            </a:r>
            <a:br>
              <a:rPr sz="1400"/>
            </a:br>
            <a:r>
              <a:rPr b="1" lang="it-IT" sz="1400" spc="-1" strike="noStrike">
                <a:solidFill>
                  <a:srgbClr val="0f5494"/>
                </a:solidFill>
                <a:latin typeface="Verdana"/>
              </a:rPr>
              <a:t> </a:t>
            </a:r>
            <a:r>
              <a:rPr b="1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br>
              <a:rPr sz="1400"/>
            </a:br>
            <a:r>
              <a:rPr b="1" lang="it-IT" sz="1400" spc="-1" strike="noStrike">
                <a:solidFill>
                  <a:srgbClr val="0f5494"/>
                </a:solidFill>
                <a:latin typeface="Verdana"/>
              </a:rPr>
              <a:t>Commissione europea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f5494"/>
                </a:solidFill>
                <a:latin typeface="Verdana"/>
              </a:rPr>
              <a:t>Rappresentanza a Milano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it-IT" sz="1400" spc="-1" strike="noStrike">
                <a:solidFill>
                  <a:srgbClr val="0f5494"/>
                </a:solidFill>
                <a:latin typeface="Verdana"/>
              </a:rPr>
              <a:t>Corso Magenta, 59 - I-20123  Milano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f5494"/>
                </a:solidFill>
                <a:latin typeface="Verdana"/>
              </a:rPr>
              <a:t>T +39 02 467514 228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f5494"/>
                </a:solidFill>
                <a:latin typeface="Verdana"/>
              </a:rPr>
              <a:t>M +39 334 62 33 048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francesco.laera@ec.europa.eu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it-IT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ec.europa.eu</a:t>
            </a:r>
            <a:r>
              <a:rPr b="0" lang="it-IT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/</a:t>
            </a:r>
            <a:r>
              <a:rPr b="0" lang="it-IT" sz="1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italia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www.facebook.com/CommissioneEuropeaMilano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7"/>
          <a:srcRect l="0" t="0" r="27533" b="0"/>
          <a:stretch/>
        </p:blipFill>
        <p:spPr>
          <a:xfrm>
            <a:off x="4932360" y="2205000"/>
            <a:ext cx="3278160" cy="26859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"/>
          <p:cNvPicPr/>
          <p:nvPr/>
        </p:nvPicPr>
        <p:blipFill>
          <a:blip r:embed="rId8"/>
          <a:stretch/>
        </p:blipFill>
        <p:spPr>
          <a:xfrm>
            <a:off x="539640" y="5373720"/>
            <a:ext cx="3924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f5494"/>
                </a:solidFill>
                <a:latin typeface="Verdana"/>
              </a:rPr>
              <a:t>Come proteggersi online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01" name="Picture 5" descr="LOGO CE-EN-NEG-quadri.ai"/>
          <p:cNvPicPr/>
          <p:nvPr/>
        </p:nvPicPr>
        <p:blipFill>
          <a:blip r:embed="rId1"/>
          <a:stretch/>
        </p:blipFill>
        <p:spPr>
          <a:xfrm>
            <a:off x="3921120" y="32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2"/>
          <p:cNvSpPr/>
          <p:nvPr/>
        </p:nvSpPr>
        <p:spPr>
          <a:xfrm>
            <a:off x="0" y="1052640"/>
            <a:ext cx="9036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3" name="TextBox 3"/>
          <p:cNvSpPr/>
          <p:nvPr/>
        </p:nvSpPr>
        <p:spPr>
          <a:xfrm>
            <a:off x="0" y="24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0f5494"/>
                </a:solidFill>
                <a:latin typeface="Verdana"/>
              </a:rPr>
              <a:t>Forte presenza di minori sui social media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504" name="Straight Arrow Connector 2"/>
          <p:cNvCxnSpPr/>
          <p:nvPr/>
        </p:nvCxnSpPr>
        <p:spPr>
          <a:xfrm>
            <a:off x="4528800" y="2796840"/>
            <a:ext cx="159480" cy="36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05" name="Straight Arrow Connector 8"/>
          <p:cNvCxnSpPr>
            <a:stCxn id="503" idx="2"/>
          </p:cNvCxnSpPr>
          <p:nvPr/>
        </p:nvCxnSpPr>
        <p:spPr>
          <a:xfrm>
            <a:off x="4571640" y="2877840"/>
            <a:ext cx="1080" cy="3704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06" name="Straight Arrow Connector 10"/>
          <p:cNvCxnSpPr/>
          <p:nvPr/>
        </p:nvCxnSpPr>
        <p:spPr>
          <a:xfrm>
            <a:off x="4295520" y="2796840"/>
            <a:ext cx="1080" cy="432360"/>
          </a:xfrm>
          <a:prstGeom prst="straightConnector1">
            <a:avLst/>
          </a:prstGeom>
          <a:ln w="0">
            <a:noFill/>
          </a:ln>
        </p:spPr>
      </p:cxnSp>
      <p:sp>
        <p:nvSpPr>
          <p:cNvPr id="507" name="TextBox 11"/>
          <p:cNvSpPr/>
          <p:nvPr/>
        </p:nvSpPr>
        <p:spPr>
          <a:xfrm>
            <a:off x="3807000" y="3357720"/>
            <a:ext cx="15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5494"/>
                </a:solidFill>
                <a:latin typeface="Verdana"/>
              </a:rPr>
              <a:t>eppure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8" name="TextBox 12"/>
          <p:cNvSpPr/>
          <p:nvPr/>
        </p:nvSpPr>
        <p:spPr>
          <a:xfrm>
            <a:off x="276120" y="5029200"/>
            <a:ext cx="38163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f5494"/>
                </a:solidFill>
                <a:latin typeface="Verdana"/>
              </a:rPr>
              <a:t>¼</a:t>
            </a:r>
            <a:r>
              <a:rPr b="1" lang="it-IT" sz="1800" spc="-1" strike="noStrike">
                <a:solidFill>
                  <a:srgbClr val="0f5494"/>
                </a:solidFill>
                <a:latin typeface="Verdana"/>
              </a:rPr>
              <a:t>*</a:t>
            </a: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 ha il profilo pubblico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f5494"/>
                </a:solidFill>
                <a:latin typeface="Verdana"/>
              </a:rPr>
              <a:t>*(da European report on children's social media safety del 19 aprile 2011)</a:t>
            </a:r>
            <a:endParaRPr b="0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509" name="Straight Arrow Connector 14"/>
          <p:cNvCxnSpPr/>
          <p:nvPr/>
        </p:nvCxnSpPr>
        <p:spPr>
          <a:xfrm>
            <a:off x="3069720" y="4016520"/>
            <a:ext cx="2520" cy="2160"/>
          </a:xfrm>
          <a:prstGeom prst="straightConnector1">
            <a:avLst/>
          </a:prstGeom>
          <a:ln w="0">
            <a:noFill/>
          </a:ln>
        </p:spPr>
      </p:cxnSp>
      <p:sp>
        <p:nvSpPr>
          <p:cNvPr id="510" name="TextBox 18"/>
          <p:cNvSpPr/>
          <p:nvPr/>
        </p:nvSpPr>
        <p:spPr>
          <a:xfrm>
            <a:off x="5122800" y="5048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f5494"/>
                </a:solidFill>
                <a:latin typeface="Verdana"/>
              </a:rPr>
              <a:t>20%*</a:t>
            </a: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 dei teenager non conosce le impostazioni per la privacy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511" name="Straight Arrow Connector 20"/>
          <p:cNvCxnSpPr/>
          <p:nvPr/>
        </p:nvCxnSpPr>
        <p:spPr>
          <a:xfrm flipH="1">
            <a:off x="3287160" y="3444480"/>
            <a:ext cx="1151640" cy="8658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12" name="Straight Arrow Connector 23"/>
          <p:cNvCxnSpPr/>
          <p:nvPr/>
        </p:nvCxnSpPr>
        <p:spPr>
          <a:xfrm>
            <a:off x="4608000" y="3733920"/>
            <a:ext cx="823320" cy="8006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513" name="Straight Arrow Connector 27"/>
          <p:cNvCxnSpPr/>
          <p:nvPr/>
        </p:nvCxnSpPr>
        <p:spPr>
          <a:xfrm>
            <a:off x="4727160" y="3733920"/>
            <a:ext cx="793080" cy="576360"/>
          </a:xfrm>
          <a:prstGeom prst="straightConnector1">
            <a:avLst/>
          </a:prstGeom>
          <a:ln w="0">
            <a:noFill/>
          </a:ln>
        </p:spPr>
      </p:cxnSp>
      <p:sp>
        <p:nvSpPr>
          <p:cNvPr id="514" name="Down Arrow 28"/>
          <p:cNvSpPr/>
          <p:nvPr/>
        </p:nvSpPr>
        <p:spPr>
          <a:xfrm rot="19737600">
            <a:off x="6516720" y="3763440"/>
            <a:ext cx="431640" cy="100836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5" name=""/>
          <p:cNvSpPr/>
          <p:nvPr/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 indent="-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f5494"/>
                </a:solidFill>
                <a:latin typeface="Verdana"/>
              </a:rPr>
              <a:t>La percezione del rischio</a:t>
            </a:r>
            <a:endParaRPr b="0" lang="en-US" sz="3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6" name="Down Arrow 28"/>
          <p:cNvSpPr/>
          <p:nvPr/>
        </p:nvSpPr>
        <p:spPr>
          <a:xfrm rot="1588800">
            <a:off x="2555640" y="3765600"/>
            <a:ext cx="431640" cy="1008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2268360" y="284652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77% (13-16 anni) e 38% (9-12 anni)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0" y="361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11160" y="1636560"/>
            <a:ext cx="910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f5494"/>
                </a:solidFill>
                <a:latin typeface="Verdana"/>
              </a:rPr>
              <a:t>La Commissione europea risponde in due modi: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1" name="TextBox 2"/>
          <p:cNvSpPr/>
          <p:nvPr/>
        </p:nvSpPr>
        <p:spPr>
          <a:xfrm>
            <a:off x="173160" y="2859120"/>
            <a:ext cx="395928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f5494"/>
                </a:solidFill>
                <a:latin typeface="Verdana"/>
              </a:rPr>
              <a:t>1) prevenzione/protezione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(lotta contro ogni forma di violenza)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incrementare la consapevolezza   nell'utilizzo di Internet 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Programma Daphne III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Direttiva contro abusi sessuali 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5153040" y="2859120"/>
            <a:ext cx="381168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f5494"/>
                </a:solidFill>
                <a:latin typeface="Verdana"/>
              </a:rPr>
              <a:t>2) combattere i contenuti illegali e/o nocivi 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rendere internet più sicuro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Programma "Internet Sicuro"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3" name="Down Arrow 9"/>
          <p:cNvSpPr/>
          <p:nvPr/>
        </p:nvSpPr>
        <p:spPr>
          <a:xfrm>
            <a:off x="2063880" y="3894120"/>
            <a:ext cx="215640" cy="411120"/>
          </a:xfrm>
          <a:prstGeom prst="downArrow">
            <a:avLst>
              <a:gd name="adj1" fmla="val 50000"/>
              <a:gd name="adj2" fmla="val 50055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4" name="Down Arrow 11"/>
          <p:cNvSpPr/>
          <p:nvPr/>
        </p:nvSpPr>
        <p:spPr>
          <a:xfrm>
            <a:off x="2063880" y="5013360"/>
            <a:ext cx="215640" cy="4125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5" name="Down Arrow 12"/>
          <p:cNvSpPr/>
          <p:nvPr/>
        </p:nvSpPr>
        <p:spPr>
          <a:xfrm>
            <a:off x="6950160" y="3865680"/>
            <a:ext cx="217440" cy="4125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6" name="Down Arrow 13"/>
          <p:cNvSpPr/>
          <p:nvPr/>
        </p:nvSpPr>
        <p:spPr>
          <a:xfrm>
            <a:off x="6924600" y="5013360"/>
            <a:ext cx="216000" cy="41256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f5494"/>
                </a:solidFill>
                <a:latin typeface="Verdana"/>
              </a:rPr>
              <a:t>1) prevenzione/protezione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8" name="TextBox 1"/>
          <p:cNvSpPr/>
          <p:nvPr/>
        </p:nvSpPr>
        <p:spPr>
          <a:xfrm>
            <a:off x="1187280" y="1916280"/>
            <a:ext cx="684072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Daphne III (2007-2013)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Programma europeo per la lotta contro le violenze verso le donne, i giovani e i bambini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1403280" y="3011400"/>
            <a:ext cx="7201080" cy="33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Obiettivi: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Studio dei fenomeni legati alla violenza e del loro impatto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Sviluppo azioni di sensibilizzazione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Sostegno delle ONG attive in questo campo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Sviluppo e attuazione di programmi di sostegno e intervento a favore delle vittime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f5494"/>
                </a:solidFill>
                <a:latin typeface="Verdana"/>
              </a:rPr>
              <a:t>1 bis) prevenzione/protezione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TextBox 1"/>
          <p:cNvSpPr/>
          <p:nvPr/>
        </p:nvSpPr>
        <p:spPr>
          <a:xfrm>
            <a:off x="1187280" y="1916280"/>
            <a:ext cx="6840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f5494"/>
                </a:solidFill>
                <a:latin typeface="Verdana"/>
              </a:rPr>
              <a:t>Direttiva contro gli abusi sessuali </a:t>
            </a:r>
            <a:endParaRPr b="0" lang="en-US" sz="20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Direttiva 2011/92/EU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32" name="TextBox 3"/>
          <p:cNvSpPr/>
          <p:nvPr/>
        </p:nvSpPr>
        <p:spPr>
          <a:xfrm>
            <a:off x="1403280" y="3011400"/>
            <a:ext cx="720108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Obiettivi: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Migliore armonizzazione delle legislazioni nazionali in materia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Punire i nuovi comportamenti (</a:t>
            </a:r>
            <a:r>
              <a:rPr b="0" i="1" lang="it-IT" sz="1600" spc="-1" strike="noStrike">
                <a:solidFill>
                  <a:srgbClr val="0f5494"/>
                </a:solidFill>
                <a:latin typeface="Verdana"/>
              </a:rPr>
              <a:t>grooming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Contrastare il turismo sessuale infantile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Rafforzare la protezione dei minori vittime di violenza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algn="just"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99640" y="1916280"/>
            <a:ext cx="6769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TextBox 3"/>
          <p:cNvSpPr/>
          <p:nvPr/>
        </p:nvSpPr>
        <p:spPr>
          <a:xfrm>
            <a:off x="468360" y="137016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f5494"/>
                </a:solidFill>
                <a:latin typeface="Verdana"/>
              </a:rPr>
              <a:t>2) rendere internet più sicuro</a:t>
            </a:r>
            <a:endParaRPr b="0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35" name="TextBox 1"/>
          <p:cNvSpPr/>
          <p:nvPr/>
        </p:nvSpPr>
        <p:spPr>
          <a:xfrm>
            <a:off x="1763640" y="1963800"/>
            <a:ext cx="583272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Safer Internet Programme 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0" lang="it-IT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30 Safer Internet Centres in tutta Europa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0" lang="it-IT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Safer Internet Day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0" lang="it-IT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Safer Internet Forum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Safer Social Networking Principles for EU</a:t>
            </a:r>
            <a:endParaRPr b="0" lang="en-US" sz="18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0" lang="it-IT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Sottoscrizione volontaria dal febbraio 2009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    </a:t>
            </a:r>
            <a:r>
              <a:rPr b="0" lang="it-IT" sz="1600" spc="-1" strike="noStrike">
                <a:solidFill>
                  <a:srgbClr val="0f5494"/>
                </a:solidFill>
                <a:latin typeface="Wingdings"/>
                <a:ea typeface="Wingdings"/>
              </a:rPr>
              <a:t>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f5494"/>
                </a:solidFill>
                <a:latin typeface="Verdana"/>
              </a:rPr>
              <a:t>Autoregolamentazione dell'industria</a:t>
            </a:r>
            <a:endParaRPr b="0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cxnSp>
        <p:nvCxnSpPr>
          <p:cNvPr id="536" name="Elbow Connector 5"/>
          <p:cNvCxnSpPr/>
          <p:nvPr/>
        </p:nvCxnSpPr>
        <p:spPr>
          <a:xfrm>
            <a:off x="250920" y="5300280"/>
            <a:ext cx="792720" cy="73800"/>
          </a:xfrm>
          <a:prstGeom prst="bentConnector3">
            <a:avLst>
              <a:gd name="adj1" fmla="val 97046"/>
            </a:avLst>
          </a:prstGeom>
          <a:ln w="0">
            <a:noFill/>
          </a:ln>
        </p:spPr>
      </p:cxnSp>
      <p:cxnSp>
        <p:nvCxnSpPr>
          <p:cNvPr id="537" name="Elbow Connector 11"/>
          <p:cNvCxnSpPr/>
          <p:nvPr/>
        </p:nvCxnSpPr>
        <p:spPr>
          <a:xfrm>
            <a:off x="468000" y="5673600"/>
            <a:ext cx="719640" cy="13680"/>
          </a:xfrm>
          <a:prstGeom prst="bentConnector3">
            <a:avLst>
              <a:gd name="adj1" fmla="val 64764"/>
            </a:avLst>
          </a:prstGeom>
          <a:ln w="0">
            <a:noFill/>
          </a:ln>
        </p:spPr>
      </p:cxnSp>
      <p:sp>
        <p:nvSpPr>
          <p:cNvPr id="538" name="Straight Connector 16"/>
          <p:cNvSpPr/>
          <p:nvPr/>
        </p:nvSpPr>
        <p:spPr>
          <a:xfrm>
            <a:off x="468360" y="5673600"/>
            <a:ext cx="71892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f5494"/>
                </a:solidFill>
                <a:latin typeface="Verdana"/>
              </a:rPr>
              <a:t>Uno sguardo al futuro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f5494"/>
                </a:solidFill>
                <a:latin typeface="Verdana"/>
              </a:rPr>
              <a:t>C’è ancora bisogno di una strategia europea?</a:t>
            </a:r>
            <a:endParaRPr b="1" lang="en-US" sz="2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31880"/>
            <a:ext cx="8218440" cy="36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Si abbassa età media dei minori onlin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Tecnologia online largamente disponibile su una molteplicità di apparecchi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Rafforzare responsabilità della imprese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Contenuti specifici per minori scarsamente disponibili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Interesse politico crescent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f5494"/>
                </a:solidFill>
                <a:latin typeface="Verdana"/>
              </a:rPr>
              <a:t>Approccio comune per mettere insieme iniziative esistenti e ridurne la frammentazion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laerafo</cp:lastModifiedBy>
  <cp:lastPrinted>2013-01-14T16:49:56Z</cp:lastPrinted>
  <dcterms:modified xsi:type="dcterms:W3CDTF">2013-01-15T07:38:37Z</dcterms:modified>
  <cp:revision>345</cp:revision>
  <dc:subject/>
  <dc:title>Slide 1</dc:title>
</cp:coreProperties>
</file>