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4E0E-C193-4FE4-9611-6FE451C691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8CD-F3C3-4A8A-87D2-5158BB47FBB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566F-1AF2-4224-9ADB-5052E3D5C78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DFF9-ADA7-4474-BC79-8E0EE05F25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5401-782D-44A6-9AA2-D47E55977E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ECC-CB5D-4F82-BE21-218B3B695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A16-76D3-4CF9-98BD-A99C4196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9D4-80DE-4DA7-868D-B2F7DFCE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AC9-89CD-4DB1-A134-E19C2963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F828-950A-4CCC-8AE7-975773F4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F03-A9FE-42CE-B98F-7DE50398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BEBF-48F9-46C2-9816-0F46FAE1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D582-9D93-4965-B209-BF741AED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559-B38D-4FEE-B842-D0664969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D675-BC6D-4AC7-B9D4-45CF51AC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E416-470C-48B8-80CD-4122FAD9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EF0-FDFD-4247-B2EF-600B3A9A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9D0F-2CD9-419C-8CC3-B1D9290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B429-E780-4610-9081-DF19B6E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4BD26-E8BE-4E5A-BA93-20104FDF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600-832A-4278-95E7-0227AE80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AB02-0684-4442-AA6E-F4A67D77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7CF-D682-42EE-9B48-3ADAADE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9DA-78CF-4C05-B20B-F8AF0E1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332-45CB-492F-8FF5-C3739BD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46F-DA7A-4044-A448-F7858F74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9D00-403D-46FB-AD94-C25F7BFA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696-8279-4A5D-BB8C-B7732CA4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9032-BAB6-4F19-91D1-B6DCF3A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C1E2-7503-47DB-9296-06803BB931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3333cc"/>
                  </a:buClr>
                  <a:buSzPct val="55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3333cc"/>
                  </a:buClr>
                  <a:buSzPct val="55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3333cc"/>
                  </a:buClr>
                  <a:buSzPct val="55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3333cc"/>
                  </a:buClr>
                  <a:buSzPct val="55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3333cc"/>
                </a:buClr>
                <a:buSzPct val="5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buClr>
                  <a:srgbClr val="3333cc"/>
                </a:buClr>
                <a:buSzPct val="5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700"/>
                </a:spcBef>
                <a:buClr>
                  <a:srgbClr val="3333cc"/>
                </a:buClr>
                <a:buSzPct val="5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9D4A-F2D7-45A7-B6E1-1CD5DCA95515}" type="slidenum">
              <a:rPr b="0" lang="it-IT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1360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tefano SURANIT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Dirigente ufficio 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ritto allo studio e Comunic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Ufficio Scolastico Regionale per il Piemo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INISTERO DELL’ISTRUZIONE, DELL’UNIVERSITA’ E DELLA RICER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403280" y="2637000"/>
            <a:ext cx="653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uolo e responsabilità delle istituzioni scolastich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materia di media education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951440" cy="10317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332720" y="1797120"/>
            <a:ext cx="62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so consapevole delle nuove tecnologi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importanza di un’alleanza educa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8">
            <a:hlinkClick r:id="rId2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educazione fisica, motoria e sportiv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2249640"/>
            <a:ext cx="860400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ività istituzionali, promozionali e progettuali di educazione motoria e spor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spcAft>
                <a:spcPts val="3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ività istituzionali, promozionali e progettuali di educazione alla sicurezza stradale e alla mobilità sostenib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Grandi ev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apporti con altri Enti ed organizzazioni che sviluppano politiche ed azioni a favore dello Sport, con il CONI e le Federazioni Sportiv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Ruolo e responsabilità delle istituzioni scolasti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ABILITA’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LEGAL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DELLA SCUO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UTELA E SORVEGLIANZA DEI GIOVANI che gli sono AFFIDATI, sia minorenni sia maggiorenni, sia bulli sia vit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UTELA E MANTENIMENTO, nonché SORVE-GLIANZA  DELLE STRUTURE E DELLE ATTREZZA-TURE (in particolare hw e sw, accessi ad internet e relative protezioni, prevenzioni di eventuali abusi dall’interno e dall’estern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Ruolo e responsabilità delle istituzioni scolastich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ABILITA’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EDUCATIVA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ELLA SCUOLA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TTO IL PROFILO TECNICO/TECNOLOGICO (conoscenza circa l’utilizzo corretto  e la relativa potenzialità degli strumenti IC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OTTO IL PROFILO DI RESPONSABILITA’ PERSO-NALE E COLLETTIVA: VERSO L’ISTITUZIONE E GLI ALTRI (sviluppo del senso di appartenenza oltre che dell’utilizzo consapevole degli strumenti IC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piè di pagina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403280" y="692280"/>
            <a:ext cx="7404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Microsoft YaHei"/>
              </a:rPr>
              <a:t>Sviluppo  della COSCIENZA ETICA nei GIOVA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09480" y="21337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Una scuola non solo per sapere, dunque,  ma anche una scuola per cresce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tramite l’ acquisizione di conoscenze, competenze, abilità, autonomia, nei margini delle capacità individuali, mediante interventi specifici da attuare sullo sfondo costante e imprescindibile dell’istruzione e della socializzazione 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2708280" y="6381720"/>
            <a:ext cx="46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Microsoft YaHei"/>
              </a:rPr>
              <a:t>USR Piemonte – Ufficio VI – Stefano SURANI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6">
            <a:hlinkClick r:id="rId1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L’importanza di un’alleanza educativ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IRCOLARI REGIONA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Circ. Reg. n.333 – 9 sett.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Circ. Reg. n.138 – 8 marzo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APPORTO CON LE FAMIGLI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oR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APPORTO CON GLI ENTI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SP (dal 2000, nel caso specifico sull’uso consapevole delle ICT nelle scuo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4"/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piè di pagina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1752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971640" y="1989000"/>
            <a:ext cx="7924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Culpa in vigilando e in educa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irc. Reg. n.333 – 9 sett. 20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corresponsabilità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educativo-formativa dei genitori e della scuol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5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patto educativo di corresponsabilit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 (art. 5 bis dello Statuto delle studentesse e degli stu-denti della scuola secondaria di cui al D.P.R. 24 giugno 1998, n. 249, adottato anche dalla scuola primaria come strumento volontario di autoregolamentazi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116000" y="18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IRCOLARI REGION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piè di pagina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7356600" y="0"/>
            <a:ext cx="1787400" cy="1916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95120" y="92160"/>
            <a:ext cx="8015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icrosoft YaHei"/>
              </a:rPr>
              <a:t>SVILUPPO della COSCIENZA 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  <a:ea typeface="Microsoft YaHei"/>
              </a:rPr>
              <a:t>            ETICA nei GIOVAN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68360" y="1989000"/>
            <a:ext cx="792468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Responsabilità disciplinare degli student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Microsoft YaHe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Microsoft YaHei"/>
              </a:rPr>
              <a:t>Circ. Reg. n.138 – 8 marzo 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Microsoft YaHei"/>
              </a:rPr>
              <a:t>supporto alle scuole per la corretta irrogazione delle sanzioni disciplin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55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Microsoft YaHei"/>
              </a:rPr>
              <a:t>Una scuola che non applica correttamente le norme sul procedimento amministrativo emana un provvedimento illegittim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1116000" y="1890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IRCOLARI REGION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32000" y="214200"/>
            <a:ext cx="7611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FoRAG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stituzione del Forum Regionale delle Associazioni dei Genitori maggiormente rappresentative denominato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oRAG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con dispone Prot.n. 677/U del 21 gennaio 20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ottoscrizione da parte dei FoRAGS d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TOCOLLO di intesa fra USR e i FORAGS del 29/06/20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TOCOLLO di intesa delle scuole della rete di prevenzione del disagio sociorelazionale ed ambientale  - 21 settembre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2000" y="214200"/>
            <a:ext cx="7611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SP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560" y="198900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getto “</a:t>
            </a:r>
            <a:r>
              <a:rPr b="1" i="1" lang="it-IT" sz="2800" spc="-1" strike="noStrike">
                <a:solidFill>
                  <a:srgbClr val="000000"/>
                </a:solidFill>
                <a:latin typeface="Tahoma"/>
              </a:rPr>
              <a:t>Dschola la scuola per le scuol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(http://www.dschola.it/lassociazione/la-storia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ima fase (2000-2004) ICT1: Una comunità scolastica nel web e sul terri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econda fase (2004-2006) ICT2: Sistemi di cooperazione e di apprendimento a distanza nel sistema scolastico piemonte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schola è anche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Extracampus Web Tv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schola Wi-Pi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4"/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32000" y="214200"/>
            <a:ext cx="761184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SP - Dschol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7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getto ha coinvolto 27 istituzioni scolastiche segnalate dalla Direzione dell’USR per il Piemonte, sulla base della loro significativa esperienza nell’uso dell’ ICT in ambito scolastico e nella sperimentazione in campo didattico,  per svolgere una funzione di riferimento e di laboratorio sul territorio regionale in ambito dell’ICT – CSAS (Centri di Servizio Animazione Sperimentazione) e CA (Centri di Animazion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compito è stato quello di organizzare la formazione ed assistenza tecnica su tutto il territorio regionale per i dirigenti scolastici, i direttori dei servizi ed i docenti delle scuole piemontesi sulle tematiche strettamente legate alle IC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ggi la rete Dschola è costituita in Associ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/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4920" y="2205000"/>
            <a:ext cx="855972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'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DENTITÀ DELLA DEMOCRAZIA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ichiede un’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ELEVATA MISURA DI RESPONSABILITÀ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nei confronti della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IMENSIONE COLLETTIVA DELL'ESISTENZA. [...]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cco in che cosa consiste la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RAGILITÀ DELLE NOSTRE SOCIETÀ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.. “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G. ZAGREBELS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UFF. VI - DIRITTO ALLO STUDI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AutoShape 5">
            <a:hlinkClick r:id="rId1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118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SP - “SafetyKids”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ttualmente è in atto una collaborazione per il progetto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“SafetyKids”,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 progetto europeo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mosso da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ssosecurity, CNR di Pisa e CS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cui partecipano l’USR per la Toscana ed il Piemo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6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l progetto è finalizzato 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tare gli insegnanti di strumenti e competenze, per met-terli in grado di affrontare questi temi con i propri studenti, recuperando il ruolo di guida e di supporto che tanta reto-rica sulle presunte competenze innate dei giovani,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ette in discuss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rnire agli studenti elementi di cittadinanza digitale sensi-bilizzandoli su alcuni rischi della navigazione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 re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6"/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6118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CSP - “SafetyKids”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raverso 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ensibilizzazione, con corsi rivolti ad un numero non troppo alto di insegnanti delle scuole di ordine e grado diverso, nelle due regioni Toscana e Piemo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stituzione di una community di pratiche permanente che sia il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mo punto di confronto fra pari su queste temati-che e che diventi un riferimento a livello nazionale per tutti i docen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6920" indent="-3769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 progettazione di una proposta di curriculum interdiscipli-nare per le scuole con indicazioni di carattere etico, psico-logico, normativo e tecnologico da proporre al Ministero dell’Istruzione e della Ricerca per l’introduzione nelle scu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5"/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piè di pagina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RINGRAZIAMENT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GRAZIE PER L’ATTEN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fficio VI – Diritto allo studio e comunicazion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ia Pietro Micca 20 - 10122 Tor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Mangal"/>
              </a:rPr>
              <a:t>Tel. </a:t>
            </a:r>
            <a:r>
              <a:rPr b="0" lang="hi-IN" sz="2400" spc="-1" strike="noStrike">
                <a:solidFill>
                  <a:srgbClr val="000000"/>
                </a:solidFill>
                <a:latin typeface="Tahoma"/>
                <a:ea typeface="Mangal"/>
              </a:rPr>
              <a:t>01151636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Mangal"/>
              </a:rPr>
              <a:t>11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7" descr="Logo USR Piemontetrasp"/>
          <p:cNvPicPr/>
          <p:nvPr/>
        </p:nvPicPr>
        <p:blipFill>
          <a:blip r:embed="rId1"/>
          <a:stretch/>
        </p:blipFill>
        <p:spPr>
          <a:xfrm>
            <a:off x="2195640" y="2852640"/>
            <a:ext cx="4967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UFF. VI - DIRITTO ALLO STUDI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411280" y="1125360"/>
            <a:ext cx="5183280" cy="48960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6012000" y="2133720"/>
            <a:ext cx="2160360" cy="22320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3780000" y="4292640"/>
            <a:ext cx="2232000" cy="208908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Oval 12"/>
          <p:cNvSpPr/>
          <p:nvPr/>
        </p:nvSpPr>
        <p:spPr>
          <a:xfrm>
            <a:off x="1692360" y="2205000"/>
            <a:ext cx="2158920" cy="20876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053080" y="292428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scu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294960" y="3068640"/>
            <a:ext cx="16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famig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917160" y="486900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Territo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socie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4060440" y="3357720"/>
            <a:ext cx="17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stud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22"/>
          <p:cNvSpPr/>
          <p:nvPr/>
        </p:nvSpPr>
        <p:spPr>
          <a:xfrm>
            <a:off x="3564000" y="2852640"/>
            <a:ext cx="649080" cy="505080"/>
          </a:xfrm>
          <a:custGeom>
            <a:avLst/>
            <a:gdLst>
              <a:gd name="textAreaLeft" fmla="*/ 113400 w 649080"/>
              <a:gd name="textAreaRight" fmla="*/ 470520 w 6490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23"/>
          <p:cNvSpPr/>
          <p:nvPr/>
        </p:nvSpPr>
        <p:spPr>
          <a:xfrm rot="10800000">
            <a:off x="4500360" y="4005360"/>
            <a:ext cx="649080" cy="504720"/>
          </a:xfrm>
          <a:custGeom>
            <a:avLst/>
            <a:gdLst>
              <a:gd name="textAreaLeft" fmla="*/ 113400 w 649080"/>
              <a:gd name="textAreaRight" fmla="*/ 470520 w 64908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AutoShape 27"/>
          <p:cNvSpPr/>
          <p:nvPr/>
        </p:nvSpPr>
        <p:spPr>
          <a:xfrm rot="5400000">
            <a:off x="5724000" y="2636640"/>
            <a:ext cx="503280" cy="639720"/>
          </a:xfrm>
          <a:custGeom>
            <a:avLst/>
            <a:gdLst>
              <a:gd name="textAreaLeft" fmla="*/ 67320 w 503280"/>
              <a:gd name="textAreaRight" fmla="*/ 435960 w 503280"/>
              <a:gd name="textAreaTop" fmla="*/ 111960 h 639720"/>
              <a:gd name="textAreaBottom" fmla="*/ 464040 h 63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28"/>
          <p:cNvSpPr/>
          <p:nvPr/>
        </p:nvSpPr>
        <p:spPr>
          <a:xfrm>
            <a:off x="1219320" y="1860480"/>
            <a:ext cx="68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NU, 1948 - Dichiarazione Universale dei Diritti Umani, art. 26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1252080" y="609300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TALIA, 1948 – Costituzione italiana, art. 23 commi 3 e 4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AutoShape 30">
            <a:hlinkClick r:id="rId1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</a:rPr>
              <a:t>Ufficio VI  - Diritto allo studio e Comunicazione: 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7 MACRO ARE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74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area dell’integrazione studenti nel contesto scu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rea educazione alla sal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area applicazione art. 9 CCNL comparto scu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area disagio socio-relazionale ed ambient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area cittadinanza e orientamento al successo form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rea educazione fisica, motoria e spor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rea cinema, teatro e musica; didattica muse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15">
            <a:hlinkClick r:id="rId5" action="ppaction://hlinksldjump"/>
          </p:cNvPr>
          <p:cNvSpPr/>
          <p:nvPr/>
        </p:nvSpPr>
        <p:spPr>
          <a:xfrm rot="10800000">
            <a:off x="8172360" y="6165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dell’integrazione studenti nel contesto scuol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2349360"/>
            <a:ext cx="8388360" cy="34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rvizi per l’integrazione degli studenti in situazione di handicap, di ospedalizzazione e di assistenza domicilia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rvizi per l’integrazione degli studenti immigrati e attività di promozione dell’intercultu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rvizi per l’integrazione degli studenti con disturbi specifici di apprendim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pporto ai Centri Nuove Tecnologie e Disabilit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0">
            <a:hlinkClick r:id="rId1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educazione alla salut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Picture 30" descr="nuovo_logo_cibo3_orizzontale"/>
          <p:cNvPicPr/>
          <p:nvPr/>
        </p:nvPicPr>
        <p:blipFill>
          <a:blip r:embed="rId1"/>
          <a:stretch/>
        </p:blipFill>
        <p:spPr>
          <a:xfrm>
            <a:off x="3564000" y="4508640"/>
            <a:ext cx="2871720" cy="1398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1042920" y="2205000"/>
            <a:ext cx="77407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ività relative a educazione e promozione alla salute, cittadinanza e costituzione, alla legalit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tti ed iniziative sull’Educazione Ambienta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AutoShape 32">
            <a:hlinkClick r:id="rId2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piè di pagina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applicazione art. 9 CCNL comparto scuol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2060640"/>
            <a:ext cx="7761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pplicazione delle politiche nazionali in materia di diritto allo studio e politiche sociali in favore degli student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ettazione e gestione Bando “Fasce deboli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gettazione e gestione procedura finanziamento alunni stranier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zioni di contrasto alla dispersione scolastic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pporto Organo di Garanzia Region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terrogazioni parlamentari e regionali sulle materia di competenz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upporto amministrativo e consulenza giuridica a tutte le aree dell’Ufficio V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7">
            <a:hlinkClick r:id="rId1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piè di pagina 5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disagio socio-relazionale ed ambiental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Picture 4" descr="IRRAZIONALE"/>
          <p:cNvPicPr/>
          <p:nvPr/>
        </p:nvPicPr>
        <p:blipFill>
          <a:blip r:embed="rId1"/>
          <a:stretch/>
        </p:blipFill>
        <p:spPr>
          <a:xfrm>
            <a:off x="395280" y="2205000"/>
            <a:ext cx="2921040" cy="30956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35280" y="2133720"/>
            <a:ext cx="5508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olitiche sociali a favore dei giovani (azioni di prevenzione e contrasto del disagio giovanil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zioni finalizzazione alla diffusione dell’educazione e della cultura alla legalit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sservatori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teristituzion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sul fenomeno del BULLISMO e della prevenzione -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te di scuo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per la prevenzione del disagio sociorela-zionale ed ambie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8">
            <a:hlinkClick r:id="rId2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piè di pagina 4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5 gennaio 201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Area cittadinanza e orientamento al successo formativ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468360" y="2349360"/>
            <a:ext cx="83487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ttività relative a cittadinanza e costituzione e alla legal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ientamento e promozione del successo form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rientamento e raccordo con il mondo universita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ttività e associazionismo degli studenti e supporto alle consulte provinciali dello studen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apporti con le associazioni dei genitori e supporto alle loro attività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25">
            <a:hlinkClick r:id="rId1" action="ppaction://hlinksldjump"/>
          </p:cNvPr>
          <p:cNvSpPr/>
          <p:nvPr/>
        </p:nvSpPr>
        <p:spPr>
          <a:xfrm>
            <a:off x="8172360" y="6021360"/>
            <a:ext cx="617760" cy="360360"/>
          </a:xfrm>
          <a:prstGeom prst="leftArrow">
            <a:avLst>
              <a:gd name="adj1" fmla="val 50000"/>
              <a:gd name="adj2" fmla="val 428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07:41:46Z</dcterms:created>
  <dc:creator>AB</dc:creator>
  <dc:description/>
  <dc:language>en-US</dc:language>
  <cp:lastModifiedBy>Laura</cp:lastModifiedBy>
  <dcterms:modified xsi:type="dcterms:W3CDTF">2013-01-14T22:25:54Z</dcterms:modified>
  <cp:revision>95</cp:revision>
  <dc:subject/>
  <dc:title>Educazione alla legalità</dc:title>
</cp:coreProperties>
</file>